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D2A67-89E6-4F73-B38E-CCF7E0B330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703D3-72FE-48AE-9661-3CE0FD0683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B52FC-887D-4125-B695-398236E59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57212-1C5D-499F-8AA7-C499138C6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BFEB9-1BF7-4842-9A41-9D23BA885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CCC43-212D-479A-9C57-4A00C15B7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46493-BD2B-450C-9AD2-EDBC984F1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3DAB7-90AB-4038-AC59-9555F53AE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CFF9A-8C67-4EBD-B1BE-048DBE33C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BA9BD-FA26-43FC-9317-9CC0B43C6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945FB-B07C-4B8A-BDE9-1DE688080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70E15-2F42-48D3-A351-D892AE29A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3D7C9-86BC-4A7A-93C2-B9693B39F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F62ED-C5DD-4352-9F2E-E8DE4A8A6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86057-339B-4901-A602-316CD6DB4F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05T09:27:21Z</dcterms:created>
  <dc:creator>Viktor R.</dc:creator>
  <dc:description/>
  <dc:language>en-US</dc:language>
  <cp:lastModifiedBy>Viktor R.</cp:lastModifiedBy>
  <dcterms:modified xsi:type="dcterms:W3CDTF">2015-09-05T09:27:59Z</dcterms:modified>
  <cp:revision>1</cp:revision>
  <dc:subject/>
  <dc:title>PowerPoint Presentation</dc:title>
</cp:coreProperties>
</file>